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FBC-6097-4052-A7E6-B9F16F1A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FC0-0EF2-4572-BFEA-709F8CD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410-6962-401D-972C-62DC325F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E00-7C5C-4B6D-B2E8-06266CA7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9A2-D709-4885-A63E-633B2E8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536-EB94-48A1-A420-DA64FEF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FBB-6D50-4B34-BB35-6F9807B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B17-046C-43FC-A572-74ED7C7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29A-5D06-49B5-8957-5983353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A06-42F9-46A5-BE82-6376747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1D0-A89D-4129-B730-5E3F4A3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AE0-F97A-4934-AE8E-D2B40DD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39B3-4530-4354-8E38-C3D64A096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@lexiko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?action=AttachFile&amp;do=get&amp;target=Eligibility+Screening_FINAL_10-8-2007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other 3 services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R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ffers EMRwrapper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ou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8:04:05Z</dcterms:modified>
  <cp:revision>28</cp:revision>
  <dc:subject/>
  <dc:title>COI Architecture? </dc:title>
</cp:coreProperties>
</file>